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936-F703-4D3C-9E43-63F5B132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2E3-4B0B-42C3-8BAE-9F6C0C8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3A2-4527-4DF9-990E-75D85F93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F0B-928D-46A7-9B9C-8A9EF75E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1FF-60E7-4630-B15D-E2F6309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B7E-A153-4C1F-8F96-B76EAEE8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B09-2A51-4BD6-93B7-952A3915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5ED-68B8-4F55-8145-75E02DB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ACE-0CA7-4893-BFAC-7BDDCF9B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5D-52C2-49F9-A416-95E74DC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EE4-30D0-4D86-82FD-1424917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7AF-6976-49E8-B718-B668510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935C-AE8E-4224-920B-D45F429A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4.xml"/><Relationship Id="rId22" Type="http://schemas.openxmlformats.org/officeDocument/2006/relationships/slide" Target="slide48.xml"/><Relationship Id="rId23" Type="http://schemas.openxmlformats.org/officeDocument/2006/relationships/slide" Target="slide50.xml"/><Relationship Id="rId24" Type="http://schemas.openxmlformats.org/officeDocument/2006/relationships/slide" Target="slide2.xml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wspa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gal &amp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t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.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ll name of the person who had a trial about libel that led to the first amendment, the freedom of speech and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 Peter Ze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how newspapers follow the politic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watchdog of the government, print wrongdoings, explain where money is going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li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rinted false defamation - hurts someone’s re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objectivity when dealing with the ethics of a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staying neutral - not putting your own views/feelings in the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ner of the Hazelwood decision - the later court case we talked about dealing with teen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he school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 sold for only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the Sentry function of a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2 Legal and Ethical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what is likely to happen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the method used to determine if something is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“Who Cares?”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eople to poll in order for it to be 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50 or the entir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that means the “newsworthiness” -or- importance of a person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romin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question you ask first in a poll/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 filter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penny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to avoid in a poll/survey (must have at least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3 Deciding what is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oaded (make them answer one way because the other sounds bad), ambiguous (too vague or too many questions in one topic), one just to be “coo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important part of an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l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that means giving credit to someone for a quote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t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blem in a l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rammar &amp;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diagram used in writing leads and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nverted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ging up dirt on people/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4 components of the basic lead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6 News story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news, attribution, verb,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a transition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n, later, and, but, or, also, finally, in general, nevertheless, likewise, however, for example, therefore, thus, in addition, mean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ormation that comes at the end of the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252396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least important facts/a clo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word that means overworked, overused, old expre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are cli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inside language of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uckr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common place for repetition to occur in an 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7 Writing new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around qu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two ways Nellie Bly created her own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oing around the world in 72 days -or- entering an insane asy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technological advancement to hurt newspape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. 1 Newspaper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indi Spear</cp:lastModifiedBy>
  <dcterms:modified xsi:type="dcterms:W3CDTF">2006-09-06T03:30:22Z</dcterms:modified>
  <cp:revision>50</cp:revision>
  <dc:subject/>
  <dc:title>No Slide Title</dc:title>
</cp:coreProperties>
</file>